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B80B-F436-4C31-8AC4-D3FABC8491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8AC2-07FC-4236-B285-3551ACB41C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A444-1B73-4F32-B17A-7D16F59608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B117-0D65-4995-A632-A70FBB13C6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2A44-A1E6-47FF-B203-EB4CC3C84C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0DB3-AC16-4C5A-9C96-68D2EF9593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E332-295F-49E1-BD96-4894F9A3F7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F580-BF9D-4321-B75A-F3EB9BF8DD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43F3-6DAB-4E38-BA30-EEBAE417E6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A09A-3361-4C1D-A780-33D195A061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0C94-D30E-43B3-88BB-3A480C43FD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203D-B8FD-4FBE-8A9F-AFC7AF0175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3A49-741A-47C0-B734-0220D82741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89EE-3AA5-47E9-8271-CD29D08506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B203-76A1-4109-A8BE-AEB61A23C5F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EC8A-F0B0-4FDF-A549-183B96FA6A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A71-7F9B-4351-860D-B8D6548D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F62-388A-42B9-A974-0E140E37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C15-D60B-45ED-BF2F-DC213BE0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CE93-8584-4172-BBC7-C6833639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85F3-7A6D-4D95-987D-4C714865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7981-7DC8-4631-B460-E507D872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BAEB-117D-4A5D-9641-38A4C7B0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57F7-0724-471D-A9AE-046CD8B5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5225-13FF-4B09-8F1D-F1E87E88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40ED-DD44-4558-B644-6CF682CC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03D3-C068-4E6A-B230-E4130702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57C0-9E65-435B-8FE6-1277EA07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4540-3A05-4183-99FD-EBBC5700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5186-6F6B-4161-989A-DB6B8B82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66D4-6C69-439B-B67A-B12CF21E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9591-396C-4F4F-9FC5-021CDDCC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FE3D-5F2A-4311-A79E-5FF90E74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20202-81BC-4C2D-A891-568B064A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618F9-DE0F-449A-9BCB-EC73930C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99365-A081-4C86-B233-36053F19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B9FE4-50EF-4B4D-BFD8-9E763217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881B9-72DB-4E72-96F8-8D6B2972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B250-4B57-4683-AF18-046451BD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30549-167E-4310-A7BF-C406010B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FDDA7-689F-4197-AD10-45D7D737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2A856-0993-4413-BE42-EF4F2C6D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5ABB6-5A3D-4054-A31F-C33A1507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6AD32-A2F0-4475-8DBB-C9AD4F55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B2E60-10A4-4BFE-9DBC-DF3DE5D5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BEE13-04AB-4DF5-B5B1-5AF897E3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BD8C9-869E-4DD1-8A73-98E10A12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96F38-533F-4B83-97D3-075293C8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0F575-01D0-400C-A6A4-06B13AE6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232-9E05-4802-96B9-97B92275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685D-9792-4EFE-9898-E8A268BF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26F3F-273F-42E4-911A-DF7C2127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73DEB-211F-4669-B77A-A00FB71C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2115B-C3BC-49B6-8373-0C2C692B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56664-BB88-45B2-AD29-27B820C5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A8171-43B2-46EA-92F3-357A427E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2EEDE-9D71-4F24-A360-4DB3CD38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5746-4ECC-4D47-9B83-EDBFCD49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348A-4892-4BA4-BEEF-A0BB07EE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01C13-9156-4646-B422-7C594AC6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55B-1805-46D1-989E-0541B477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E1351-0262-47D5-A993-148B0DB9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8BFE5-ABBA-4987-BFDA-A0E765E7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7D60B-16DE-4F87-994F-C3B4C37D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AA342-E816-4E89-A957-A5AE2997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003F5-BC0B-4BBD-83A6-792C7879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FACD4-6AB1-4669-816D-F0E167A9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E2041-2963-4026-BD2F-18295F89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F573F-3A3B-490B-96D1-ED7C0FBD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71BC2-F281-4102-B145-634FD2BA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6E00E-9FCE-431D-9233-76970403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A82-BE91-406C-9F5E-EA3A96F7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74F34-335B-4BE9-9619-A1A436BB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0C7D4-7B4F-421D-A429-6ACFD20F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5134C-6C18-43F9-818D-5BD8D103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AA772-0CE7-487E-97A1-3B5D4CC5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CBB53-16A6-4B51-90CE-A67F5FBE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04127-DB86-47C3-95AD-93986989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57A60-F1A3-4563-9B47-A273845F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88C85-7560-4C47-B9C3-B3222B96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12C37-4EA3-4323-9FDE-4649FDA7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37FD3-D20C-4F8E-AB53-00A598DE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9C4-408B-493C-893E-09CE9FF7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C3121-363E-42A1-A6B7-DEB25A9B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AA59B-C8E0-45D2-AE1C-7FE65F72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CEDA5-E093-40F7-B5DB-A4AE0D29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D06B8-B9D2-4B0A-9080-2D7621F0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9F54B-2E37-4B8A-ACA5-A43C7B36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569B8-1574-4EC9-81ED-81C614F6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8CE93-DD9F-4CEE-A875-B6D3C7FB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62FBF-C836-4EB9-97CF-AA1DBE7D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AA038-C4EC-47B8-BB7D-7D5E3614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446FB-D75C-4674-B3E6-06146232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6A1-54F0-49C5-9FE8-1C1D8B70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99F07-64A8-496F-9112-4F540D5B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73234-67F0-4F93-BC94-5AECC7A5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E6E58-E486-4B9E-A2AD-00CE3A9D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92BA1-A0E3-413A-9986-83387753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5FD97-F604-4BDE-ACFF-3B1ABCDA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82EC-E6EB-4ECE-A442-B81037F0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0C1C-F3C0-4BC0-AC79-A38C84D4FFB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488C-AC42-4777-9E76-7D23CDE18DE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2CDD-A11E-4DD9-B3D0-5DA48ACE60A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6332-3A04-406B-8EF7-069E93C3F29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8A3B-8879-4167-822C-A49BC8F7D1A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F7E2-24EB-441C-B049-59002255906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4065-1806-4E81-8111-264BB27E27C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18676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hapter 19, section 3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6" descr="EarthMS_J25_LunarEclipse_sx5601b3"/>
          <p:cNvPicPr/>
          <p:nvPr/>
        </p:nvPicPr>
        <p:blipFill>
          <a:blip r:embed="rId1"/>
          <a:stretch/>
        </p:blipFill>
        <p:spPr>
          <a:xfrm>
            <a:off x="1143000" y="1447920"/>
            <a:ext cx="72709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040" y="512280"/>
            <a:ext cx="52578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otal Lunar Eclips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3" name="Picture 2" descr="http://www.aip.org/dbis/stories/2007/images/17086LunarEclipse.jpg"/>
          <p:cNvPicPr/>
          <p:nvPr/>
        </p:nvPicPr>
        <p:blipFill>
          <a:blip r:embed="rId1"/>
          <a:stretch/>
        </p:blipFill>
        <p:spPr>
          <a:xfrm>
            <a:off x="609480" y="1143000"/>
            <a:ext cx="2260800" cy="2057400"/>
          </a:xfrm>
          <a:prstGeom prst="rect">
            <a:avLst/>
          </a:prstGeom>
          <a:ln w="0">
            <a:noFill/>
          </a:ln>
        </p:spPr>
      </p:pic>
      <p:sp>
        <p:nvSpPr>
          <p:cNvPr id="394" name="Title 1"/>
          <p:cNvSpPr/>
          <p:nvPr/>
        </p:nvSpPr>
        <p:spPr>
          <a:xfrm>
            <a:off x="2743200" y="5410080"/>
            <a:ext cx="594360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artial Lunar Eclips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4" descr="http://www.space.com/images/lunar_eclipse_diagram_030425_03.gif"/>
          <p:cNvPicPr/>
          <p:nvPr/>
        </p:nvPicPr>
        <p:blipFill>
          <a:blip r:embed="rId2"/>
          <a:stretch/>
        </p:blipFill>
        <p:spPr>
          <a:xfrm>
            <a:off x="3276720" y="1295280"/>
            <a:ext cx="5048280" cy="3019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photos.samuelgordonstewart.com/albums/lunar07/P1020021.thumb.jpg"/>
          <p:cNvPicPr/>
          <p:nvPr/>
        </p:nvPicPr>
        <p:blipFill>
          <a:blip r:embed="rId3"/>
          <a:stretch/>
        </p:blipFill>
        <p:spPr>
          <a:xfrm>
            <a:off x="609480" y="3429000"/>
            <a:ext cx="2392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id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Tide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the rise and fall of ocean water that occurs every 12.5 hours or s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ides are caused mainly by differences in how much the moon’s gravity pulls on different parts of Earth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Tide Cycle-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re are two places with high tides and two places with low tides on Ear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6" descr="EarthMS_J26_Tides_sx5593a3"/>
          <p:cNvPicPr/>
          <p:nvPr/>
        </p:nvPicPr>
        <p:blipFill>
          <a:blip r:embed="rId1"/>
          <a:stretch/>
        </p:blipFill>
        <p:spPr>
          <a:xfrm>
            <a:off x="609480" y="1295280"/>
            <a:ext cx="8167680" cy="4724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EarthMS_J26_Tides_text1_sx5593a3"/>
          <p:cNvPicPr/>
          <p:nvPr/>
        </p:nvPicPr>
        <p:blipFill>
          <a:blip r:embed="rId2"/>
          <a:stretch/>
        </p:blipFill>
        <p:spPr>
          <a:xfrm>
            <a:off x="6477120" y="2133720"/>
            <a:ext cx="1120680" cy="492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EarthMS_J26_Tides_text3_sx5593a3"/>
          <p:cNvPicPr/>
          <p:nvPr/>
        </p:nvPicPr>
        <p:blipFill>
          <a:blip r:embed="rId3"/>
          <a:stretch/>
        </p:blipFill>
        <p:spPr>
          <a:xfrm>
            <a:off x="1143000" y="2895480"/>
            <a:ext cx="1479600" cy="762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EarthMS_J26_Tides_text2_sx5593a3"/>
          <p:cNvPicPr/>
          <p:nvPr/>
        </p:nvPicPr>
        <p:blipFill>
          <a:blip r:embed="rId4"/>
          <a:stretch/>
        </p:blipFill>
        <p:spPr>
          <a:xfrm>
            <a:off x="7086600" y="4800600"/>
            <a:ext cx="1463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914400" y="685800"/>
            <a:ext cx="7772400" cy="56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Spring Tides-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combined forces of the sun’s gravity and the moon’s gravity pulling in the same direction produce a tide with the greatest difference between consecutive low and high tid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Occur twice a month, at full moon and new mo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4" name="Picture 10" descr="EarthMS_J27_SNTides1_sx5594a3"/>
          <p:cNvPicPr/>
          <p:nvPr/>
        </p:nvPicPr>
        <p:blipFill>
          <a:blip r:embed="rId1"/>
          <a:stretch/>
        </p:blipFill>
        <p:spPr>
          <a:xfrm>
            <a:off x="2057400" y="3809880"/>
            <a:ext cx="4603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838080" y="45684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Neap Tides-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uring the moon’s first-quarter and third-quarter, the line between the Earth and the sun are at right angles to the line between the Earth and the moon during and produce a tide with the least difference between consecutive low and high tid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lnSpc>
                <a:spcPct val="8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Occur twice a month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6" name="Picture 11" descr="EarthMS_J27_SNTides2_sx5594a3"/>
          <p:cNvPicPr/>
          <p:nvPr/>
        </p:nvPicPr>
        <p:blipFill>
          <a:blip r:embed="rId1"/>
          <a:stretch/>
        </p:blipFill>
        <p:spPr>
          <a:xfrm>
            <a:off x="4267080" y="3505320"/>
            <a:ext cx="3748320" cy="29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14400" y="685800"/>
            <a:ext cx="7772400" cy="56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same side of the moon always faces the Ear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changing relative positions of the moon, Earth, and sun cause the phases of the moon, eclipses, and tid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moon reflects the light from the sun which causes us to see the moon at nigh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has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Phase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different shapes of the moon you see from Earth ; Caused by changes in the relative positions of the moon, Earth, and the su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phase of the moon you see depends on how much of the sunlit side of the moon faces Ear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1"/>
          <p:cNvGrpSpPr/>
          <p:nvPr/>
        </p:nvGrpSpPr>
        <p:grpSpPr>
          <a:xfrm>
            <a:off x="685800" y="914400"/>
            <a:ext cx="8000640" cy="5441760"/>
            <a:chOff x="685800" y="914400"/>
            <a:chExt cx="8000640" cy="5441760"/>
          </a:xfrm>
        </p:grpSpPr>
        <p:sp>
          <p:nvSpPr>
            <p:cNvPr id="381" name="Rectangle 17"/>
            <p:cNvSpPr/>
            <p:nvPr/>
          </p:nvSpPr>
          <p:spPr>
            <a:xfrm>
              <a:off x="685800" y="914400"/>
              <a:ext cx="8000640" cy="5441760"/>
            </a:xfrm>
            <a:prstGeom prst="rect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pic>
          <p:nvPicPr>
            <p:cNvPr id="382" name="Picture 20" descr="EarthMS_J22_Phases_sx5709b3"/>
            <p:cNvPicPr/>
            <p:nvPr/>
          </p:nvPicPr>
          <p:blipFill>
            <a:blip r:embed="rId1"/>
            <a:stretch/>
          </p:blipFill>
          <p:spPr>
            <a:xfrm>
              <a:off x="1541880" y="1012680"/>
              <a:ext cx="6379560" cy="530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clips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Eclipse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n an object in space comes between the sun and a third object, it casts a shadow on that objec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When the moon’s shadow hits Earth or Earth’s shadow hits the moon, an eclipse occu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clipses continue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Solar Eclipse-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ccurs when the moon passes directly between Earth and the sun, blocking sunlight from the Earth; when a new moon blocks our view of the su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2" descr="http://tbn0.google.com/images?q=tbn:-3Sso85780Nr7M:http://shettydeepak.files.wordpress.com/2009/07/total_solar_eclipse.jpg"/>
          <p:cNvPicPr/>
          <p:nvPr/>
        </p:nvPicPr>
        <p:blipFill>
          <a:blip r:embed="rId1"/>
          <a:stretch/>
        </p:blipFill>
        <p:spPr>
          <a:xfrm>
            <a:off x="2895480" y="3809880"/>
            <a:ext cx="373392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914400" y="837720"/>
            <a:ext cx="777240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rbel"/>
              </a:rPr>
              <a:t>Umbra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e cone-shaped darkest part of the moon’s shadow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atin for “shadow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e people within the umbra experience the short period of a total solar eclips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rbel"/>
              </a:rPr>
              <a:t>Penumbra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- the less dark, larger part of the shadow; part of the sun is visible from Earth therefore it is called a partial solar eclipse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atin for “almost shadow”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EarthMS_J24_SolarEclipse_sx5592b3"/>
          <p:cNvPicPr/>
          <p:nvPr/>
        </p:nvPicPr>
        <p:blipFill>
          <a:blip r:embed="rId1"/>
          <a:stretch/>
        </p:blipFill>
        <p:spPr>
          <a:xfrm>
            <a:off x="1433520" y="2117880"/>
            <a:ext cx="62769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914400" y="762120"/>
            <a:ext cx="7772400" cy="55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rbel"/>
              </a:rPr>
              <a:t>Lunar Eclipse-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occurs at a full moon when Earth is directly between the moon and the su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arth blocks sunlight from reaching the mo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nly occurs when there is a full mo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en the Earth’s moon is in Earth’s umbra, you see a total lunar eclips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 total lunar eclipse can be seen anywhere on Earth that the moon is visibl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 partial lunar eclipse occurs when the moon passes partly in the umbra of the Earth’s shadow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0:19:20Z</dcterms:created>
  <dc:creator>Alicia Arangio</dc:creator>
  <dc:description/>
  <dc:language>en-US</dc:language>
  <cp:lastModifiedBy>Alicia Arangio</cp:lastModifiedBy>
  <dcterms:modified xsi:type="dcterms:W3CDTF">2009-08-20T02:12:23Z</dcterms:modified>
  <cp:revision>10</cp:revision>
  <dc:subject/>
  <dc:title>Phases, eclipses, and tides</dc:title>
</cp:coreProperties>
</file>